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5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3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9.png" ContentType="image/png"/>
  <Override PartName="/ppt/media/image39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9E8-5538-4BB8-B8C1-769314A6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40-A862-496C-895D-6546B79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4B6-39D8-43FF-B552-89F5A7E6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A64-8C63-4E3F-BDFE-24085C69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57A-B67A-44B7-B9C2-2FE6EC94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CB1-E8D6-47C1-9B99-2A0C45A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289-A672-44E3-9158-8EB54B9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950-F4D1-44A9-A287-61E4D068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2DA-F5AB-46D0-875A-0EE7F04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637-206E-47FF-B532-F91D70CF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BF0-9DB8-4520-B980-19EC6A8F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1EC-B9A7-41B3-A72D-805F404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92B-5B2C-41AD-8501-91987BCF2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18680" y="2527200"/>
            <a:ext cx="8318880" cy="1739880"/>
            <a:chOff x="418680" y="2527200"/>
            <a:chExt cx="831888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3332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8680" y="2527200"/>
              <a:ext cx="8318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Mesoscale eddy activity in high resol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orth Atlantic MICOM and HYCOM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umerical simula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420360" y="464832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GS 2002,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960" y="574560"/>
            <a:ext cx="7707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5,000 isobaric float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1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Brazil Current ring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Stream separ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and Garraffo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Water form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and Chassignet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terranean outlow/meddi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padakis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turning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of Mexico Loop Curr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Romanou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ibbean inflows/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H variabil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et al.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rador Sea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eetten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equatorial wav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Foltz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lorida_straits" descr=""/>
          <p:cNvPicPr/>
          <p:nvPr/>
        </p:nvPicPr>
        <p:blipFill>
          <a:blip r:embed="rId1"/>
          <a:srcRect l="6534" t="20205" r="6534" b="30303"/>
          <a:stretch/>
        </p:blipFill>
        <p:spPr>
          <a:xfrm>
            <a:off x="152280" y="228600"/>
            <a:ext cx="8839440" cy="651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5200" y="61722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meta.florida.run3" descr=""/>
          <p:cNvPicPr/>
          <p:nvPr/>
        </p:nvPicPr>
        <p:blipFill>
          <a:blip r:embed="rId1"/>
          <a:stretch/>
        </p:blipFill>
        <p:spPr>
          <a:xfrm>
            <a:off x="-838080" y="-2971800"/>
            <a:ext cx="10950480" cy="1416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560" y="64771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24852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7301"/>
                </a:moveTo>
                <a:lnTo>
                  <a:pt x="10923" y="7301"/>
                </a:lnTo>
                <a:lnTo>
                  <a:pt x="11306" y="7667"/>
                </a:lnTo>
                <a:lnTo>
                  <a:pt x="20515" y="7667"/>
                </a:lnTo>
                <a:lnTo>
                  <a:pt x="21072" y="8224"/>
                </a:lnTo>
                <a:lnTo>
                  <a:pt x="21072" y="8772"/>
                </a:lnTo>
                <a:lnTo>
                  <a:pt x="22917" y="8772"/>
                </a:lnTo>
                <a:lnTo>
                  <a:pt x="23283" y="8224"/>
                </a:lnTo>
                <a:lnTo>
                  <a:pt x="24022" y="8224"/>
                </a:lnTo>
                <a:lnTo>
                  <a:pt x="24022" y="13376"/>
                </a:lnTo>
                <a:lnTo>
                  <a:pt x="23283" y="13376"/>
                </a:lnTo>
                <a:lnTo>
                  <a:pt x="22917" y="12828"/>
                </a:lnTo>
                <a:lnTo>
                  <a:pt x="21072" y="12828"/>
                </a:lnTo>
                <a:lnTo>
                  <a:pt x="21072" y="14107"/>
                </a:lnTo>
                <a:lnTo>
                  <a:pt x="11489" y="14107"/>
                </a:lnTo>
                <a:lnTo>
                  <a:pt x="11489" y="9877"/>
                </a:lnTo>
                <a:lnTo>
                  <a:pt x="11306" y="9877"/>
                </a:lnTo>
                <a:lnTo>
                  <a:pt x="10923" y="10243"/>
                </a:lnTo>
                <a:lnTo>
                  <a:pt x="10009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9240" y="5486400"/>
            <a:ext cx="31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opex_new.atl" descr=""/>
          <p:cNvPicPr/>
          <p:nvPr/>
        </p:nvPicPr>
        <p:blipFill>
          <a:blip r:embed="rId2"/>
          <a:srcRect l="3267" t="0" r="0" b="0"/>
          <a:stretch/>
        </p:blipFill>
        <p:spPr>
          <a:xfrm>
            <a:off x="4572000" y="30492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3680" y="55627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opex_new.atl" descr=""/>
          <p:cNvPicPr/>
          <p:nvPr/>
        </p:nvPicPr>
        <p:blipFill>
          <a:blip r:embed="rId1"/>
          <a:srcRect l="3267" t="0" r="0" b="0"/>
          <a:stretch/>
        </p:blipFill>
        <p:spPr>
          <a:xfrm>
            <a:off x="4572000" y="2286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10" name="st.yr1979.eta" descr=""/>
          <p:cNvPicPr/>
          <p:nvPr/>
        </p:nvPicPr>
        <p:blipFill>
          <a:blip r:embed="rId2"/>
          <a:stretch/>
        </p:blipFill>
        <p:spPr>
          <a:xfrm>
            <a:off x="254160" y="838080"/>
            <a:ext cx="424152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720" y="5486400"/>
            <a:ext cx="23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3680" y="56386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371520"/>
            <a:ext cx="83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ainment parameterization using Hallberg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it solver using Turner’s  (1986) entrai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 (based on Richardson numb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2200" y="30891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erranean out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Straits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88620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7301"/>
                </a:moveTo>
                <a:lnTo>
                  <a:pt x="13139" y="7301"/>
                </a:lnTo>
                <a:lnTo>
                  <a:pt x="13522" y="7667"/>
                </a:lnTo>
                <a:lnTo>
                  <a:pt x="22731" y="7667"/>
                </a:lnTo>
                <a:lnTo>
                  <a:pt x="23288" y="8224"/>
                </a:lnTo>
                <a:lnTo>
                  <a:pt x="23288" y="8772"/>
                </a:lnTo>
                <a:lnTo>
                  <a:pt x="25133" y="8772"/>
                </a:lnTo>
                <a:lnTo>
                  <a:pt x="25498" y="8224"/>
                </a:lnTo>
                <a:lnTo>
                  <a:pt x="26238" y="8224"/>
                </a:lnTo>
                <a:lnTo>
                  <a:pt x="26238" y="13376"/>
                </a:lnTo>
                <a:lnTo>
                  <a:pt x="25498" y="13376"/>
                </a:lnTo>
                <a:lnTo>
                  <a:pt x="25133" y="12828"/>
                </a:lnTo>
                <a:lnTo>
                  <a:pt x="23288" y="12828"/>
                </a:lnTo>
                <a:lnTo>
                  <a:pt x="23288" y="14107"/>
                </a:lnTo>
                <a:lnTo>
                  <a:pt x="13705" y="14107"/>
                </a:lnTo>
                <a:lnTo>
                  <a:pt x="13705" y="9877"/>
                </a:lnTo>
                <a:lnTo>
                  <a:pt x="13522" y="9877"/>
                </a:lnTo>
                <a:lnTo>
                  <a:pt x="13139" y="10243"/>
                </a:lnTo>
                <a:lnTo>
                  <a:pt x="1222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hi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473720" y="2527200"/>
            <a:ext cx="196200" cy="647640"/>
            <a:chOff x="4473720" y="2527200"/>
            <a:chExt cx="196200" cy="647640"/>
          </a:xfrm>
        </p:grpSpPr>
        <p:sp>
          <p:nvSpPr>
            <p:cNvPr id="55" name=""/>
            <p:cNvSpPr/>
            <p:nvPr/>
          </p:nvSpPr>
          <p:spPr>
            <a:xfrm>
              <a:off x="4473720" y="253332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85960" y="252720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8360" y="285120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ric P. Chassignet, Patrick J. Hogan, Zulema D. Garraff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arley E. Hurlburt, Raffaele Ferrar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 Alan J. Wall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pdf" descr=""/>
          <p:cNvPicPr/>
          <p:nvPr/>
        </p:nvPicPr>
        <p:blipFill>
          <a:blip r:embed="rId1"/>
          <a:srcRect l="0" t="26147" r="68184" b="26147"/>
          <a:stretch/>
        </p:blipFill>
        <p:spPr>
          <a:xfrm>
            <a:off x="76320" y="-304920"/>
            <a:ext cx="4278240" cy="495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40080" y="49528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rth-South PDF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760" y="423216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ific 25N-35N (Obs.)                  MICOM Atlantic 15N-4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2120" y="5756400"/>
            <a:ext cx="870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(PDF with MICOM from 25N to 35N is more skewed to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positive density ratio, but is otherwise similar to the above fig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ighres" descr=""/>
          <p:cNvPicPr/>
          <p:nvPr/>
        </p:nvPicPr>
        <p:blipFill>
          <a:blip r:embed="rId2"/>
          <a:srcRect l="0" t="51714" r="46952" b="0"/>
          <a:stretch/>
        </p:blipFill>
        <p:spPr>
          <a:xfrm>
            <a:off x="5181480" y="152280"/>
            <a:ext cx="338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vertical coordinate (σ-theta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2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from year 5 of MI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MO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6760" y="18252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HY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sh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1064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sh_8_139" descr=""/>
          <p:cNvPicPr/>
          <p:nvPr/>
        </p:nvPicPr>
        <p:blipFill>
          <a:blip r:embed="rId1"/>
          <a:stretch/>
        </p:blipFill>
        <p:spPr>
          <a:xfrm>
            <a:off x="1219320" y="-61920"/>
            <a:ext cx="699588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sh_gs_8_211" descr=""/>
          <p:cNvPicPr/>
          <p:nvPr/>
        </p:nvPicPr>
        <p:blipFill>
          <a:blip r:embed="rId1"/>
          <a:stretch/>
        </p:blipFill>
        <p:spPr>
          <a:xfrm>
            <a:off x="380880" y="-1143000"/>
            <a:ext cx="8458200" cy="845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8487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4840" y="548640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7080" y="5486400"/>
            <a:ext cx="32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024-rms-ssh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ld_MN" descr=""/>
          <p:cNvPicPr/>
          <p:nvPr/>
        </p:nvPicPr>
        <p:blipFill>
          <a:blip r:embed="rId1"/>
          <a:stretch/>
        </p:blipFill>
        <p:spPr>
          <a:xfrm>
            <a:off x="1066680" y="0"/>
            <a:ext cx="698364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urface_024_0007_046_ginmld" descr=""/>
          <p:cNvPicPr/>
          <p:nvPr/>
        </p:nvPicPr>
        <p:blipFill>
          <a:blip r:embed="rId1"/>
          <a:stretch/>
        </p:blipFill>
        <p:spPr>
          <a:xfrm>
            <a:off x="0" y="609480"/>
            <a:ext cx="4468680" cy="4469040"/>
          </a:xfrm>
          <a:prstGeom prst="rect">
            <a:avLst/>
          </a:prstGeom>
          <a:ln w="0">
            <a:noFill/>
          </a:ln>
        </p:spPr>
      </p:pic>
      <p:pic>
        <p:nvPicPr>
          <p:cNvPr id="137" name="surface_025_0009_043_ginmld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7200" y="507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34800" y="51055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hourly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084_1999_242_sec2_sal" descr=""/>
          <p:cNvPicPr/>
          <p:nvPr/>
        </p:nvPicPr>
        <p:blipFill>
          <a:blip r:embed="rId1"/>
          <a:stretch/>
        </p:blipFill>
        <p:spPr>
          <a:xfrm>
            <a:off x="1654200" y="609480"/>
            <a:ext cx="6194520" cy="619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43200" y="7632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diterranean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vel20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6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7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70520" cy="405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1800" y="510552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son and Brown, 1994 J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18512" r="1886" b="7901"/>
          <a:stretch/>
        </p:blipFill>
        <p:spPr>
          <a:xfrm>
            <a:off x="4716360" y="2133720"/>
            <a:ext cx="3741840" cy="270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1886" t="16631" r="1886" b="6015"/>
          <a:stretch/>
        </p:blipFill>
        <p:spPr>
          <a:xfrm>
            <a:off x="673200" y="2035080"/>
            <a:ext cx="3670200" cy="2841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98080" y="76212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Mea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644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0 (27.8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528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1 (27.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2767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6720" y="35053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352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520" y="35053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6680" y="2346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6800" y="2438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2920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392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798560"/>
            <a:ext cx="4221000" cy="406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7320" y="175248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North Atlantic HYCOM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504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2 (27.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2388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3 (28.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40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32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3048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1880" y="29718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38862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3.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20" y="2895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" y="3413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21337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-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1836720"/>
            <a:ext cx="4254480" cy="4092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814840" y="152388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1 (27.88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880" y="5818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033640"/>
            <a:ext cx="4119480" cy="3965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1523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2 (27.94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640" y="58672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11554" r="0" b="14509"/>
          <a:stretch/>
        </p:blipFill>
        <p:spPr>
          <a:xfrm>
            <a:off x="1995480" y="1447920"/>
            <a:ext cx="515304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648320" y="182880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95480" y="852480"/>
            <a:ext cx="5153040" cy="5153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54360" y="2700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nmark Straits over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174600"/>
            <a:ext cx="822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0720" y="2187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2200" y="326232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8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1800" y="228600"/>
            <a:ext cx="84582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87440" y="3795840"/>
            <a:ext cx="4767120" cy="24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91680" y="2158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92760" y="474984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90680" y="1204920"/>
            <a:ext cx="4781520" cy="243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77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4484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2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ertical layers (σ-th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6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9-2001:       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Levi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252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MI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22:58:29Z</dcterms:created>
  <dc:creator>Eric Chassignet</dc:creator>
  <dc:description/>
  <dc:language>en-US</dc:language>
  <cp:lastModifiedBy>Eric Chassignet</cp:lastModifiedBy>
  <dcterms:modified xsi:type="dcterms:W3CDTF">2002-04-25T07:57:00Z</dcterms:modified>
  <cp:revision>17</cp:revision>
  <dc:subject/>
  <dc:title>LOM 2002</dc:title>
</cp:coreProperties>
</file>