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42D-69FE-436A-BC37-BE36D929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EDA-AA41-44DC-B802-6B1A86F8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115-2C24-45BC-8691-A9B3BCBC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A0D-85C5-4FE2-8EC4-CB5C32EE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D0D9-EEC7-451A-9628-66D35FC5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BECB-F4EE-4B7E-AE40-DD198012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2B57-5DE5-4FFD-B90A-47AC5802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17B1-77F5-4C99-90B8-A5526AB3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66C9-D1E7-4577-8E8E-CCB6B20B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396B-EEC8-4E3E-920E-6EBB3C25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733A-3105-4889-9427-CCCFB9D6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998-FCA9-492D-9554-EF958795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AE6A-9B33-42E5-9E08-3FE70F8E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1F42-CF41-424D-BD56-A50DFCFF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08AE-F1B7-41CE-A728-1AFDDB09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BD70-F065-4B05-8CE7-448B146E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B950-4D97-4F87-B8C2-F652FF79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FC5-1780-428A-94E9-C9FF67B8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C51-1DDF-4D97-8512-C720853E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2D7-0CC2-4A2E-AC53-25C8C867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2EB-BF12-4794-9EE3-543B21C0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F4E-766E-4D06-942F-7FF014D4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1BF-895A-47E5-A7ED-9E5B6757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0E8-527F-4C98-BF1C-A141C376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08F1-C1C5-460A-BDF5-3D7A0287A3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3E75-3545-4600-92C3-46F2744776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ovie_ssh_annual.gif" TargetMode="External"/><Relationship Id="rId2" Type="http://schemas.openxmlformats.org/officeDocument/2006/relationships/hyperlink" Target="file:///movie_ssh_monthly.gif" TargetMode="External"/><Relationship Id="rId3" Type="http://schemas.openxmlformats.org/officeDocument/2006/relationships/hyperlink" Target="file:///movie_mth_annual.gif" TargetMode="External"/><Relationship Id="rId4" Type="http://schemas.openxmlformats.org/officeDocument/2006/relationships/hyperlink" Target="file:///movie_mth_monthly.gif" TargetMode="External"/><Relationship Id="rId5" Type="http://schemas.openxmlformats.org/officeDocument/2006/relationships/hyperlink" Target="file:///movie_shf_annual.gif" TargetMode="External"/><Relationship Id="rId6" Type="http://schemas.openxmlformats.org/officeDocument/2006/relationships/hyperlink" Target="file:///movie_shf_monthly.gif" TargetMode="External"/><Relationship Id="rId7" Type="http://schemas.openxmlformats.org/officeDocument/2006/relationships/hyperlink" Target="file:///movie_ico_annual.gif" TargetMode="External"/><Relationship Id="rId8" Type="http://schemas.openxmlformats.org/officeDocument/2006/relationships/hyperlink" Target="file:///movie_ico_monthly.gif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movie_tem_z0_ann.gif" TargetMode="External"/><Relationship Id="rId2" Type="http://schemas.openxmlformats.org/officeDocument/2006/relationships/hyperlink" Target="file:///movie_tem_z0_monthly.gif" TargetMode="External"/><Relationship Id="rId3" Type="http://schemas.openxmlformats.org/officeDocument/2006/relationships/hyperlink" Target="file:///movie_sal_z0_ann.gif" TargetMode="External"/><Relationship Id="rId4" Type="http://schemas.openxmlformats.org/officeDocument/2006/relationships/hyperlink" Target="file:///movie_sal_z0_monthly.gif" TargetMode="External"/><Relationship Id="rId5" Type="http://schemas.openxmlformats.org/officeDocument/2006/relationships/hyperlink" Target="file:///movie_rho_z0_ann.gif" TargetMode="External"/><Relationship Id="rId6" Type="http://schemas.openxmlformats.org/officeDocument/2006/relationships/hyperlink" Target="file:///movie_rho_z0_monthly.gif" TargetMode="External"/><Relationship Id="rId7" Type="http://schemas.openxmlformats.org/officeDocument/2006/relationships/hyperlink" Target="file:///movie_tem_zm_ann.gif" TargetMode="External"/><Relationship Id="rId8" Type="http://schemas.openxmlformats.org/officeDocument/2006/relationships/hyperlink" Target="file:///movie_tem_zm_monthly.gif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9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YCOM GLBx2.00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Experi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400" y="39621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ve Bi and Alan Wallcra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MAS/MPO, University of Mia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RL Stenn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gust, 20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el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orizontal and Vertical Struct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al Desig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el Results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es movie show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Surface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Water Mass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orizontal and Vertical Distribu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Horizontal Curr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odel Configuration: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Horizontal Gr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3504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rcator mesh of resolution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ºx2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os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) is used south of 6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. At this latitude, the Mercator projection smoothly  transitions to a bipolar projection with poles over Canada and Siberia but without grid singularity over the ocean are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525780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odel Configuration: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Vertical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3200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YCOM global version (GLBx2.00) represents the ocean by 26 layers vertically, using </a:t>
            </a:r>
            <a:r>
              <a:rPr b="1" lang="el-GR" sz="1600" spc="-1" strike="noStrike">
                <a:solidFill>
                  <a:srgbClr val="000000"/>
                </a:solidFill>
                <a:latin typeface="Tahoma"/>
                <a:ea typeface="Arial"/>
              </a:rPr>
              <a:t>σ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 (potential density referenced to the sea surface) as vertical coordinate in the ocean interior. However, coordinate surfaces level off to become constant-depth surface wherever the isopycnals they follow outcrop at the sea surfac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s figure shows a snap shot of the layers along the 20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ºW meridia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05320" y="1839960"/>
            <a:ext cx="54496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u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orc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ADS monthly atmospheric climatology, including wind stresses, wind speed, solar radiation, net radiation, moisture, etc.. No fresh water flux (E-P) is applied. In stead, the sea surface salinity is relaxed to Levitus climatolog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model ocean is initialized with the Levitus climatology, i.e., monthly salinity and tempera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ergy load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ixed layer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P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ntegr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ur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38 ye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esult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face fe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 Surface He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annual me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xed layer thick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annual me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face heat fl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annual me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 ice concen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annual me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esult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er mass pr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face distributio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ST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annual me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SS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annual me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SD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annual me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structure (zonal avera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erature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annual me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inity         (annual mean and seasonal cyc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tification  (annual mean and seasonal cyc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esult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rizontal curr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ed Layer Velo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mean  and  Seasonal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rzontal currents at 1000m dep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mean  and  Seasonal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7:06:40Z</dcterms:created>
  <dc:creator>david bi</dc:creator>
  <dc:description/>
  <dc:language>en-US</dc:language>
  <cp:lastModifiedBy>david bi</cp:lastModifiedBy>
  <dcterms:modified xsi:type="dcterms:W3CDTF">2002-08-13T21:23:38Z</dcterms:modified>
  <cp:revision>17</cp:revision>
  <dc:subject/>
  <dc:title>Slide 1</dc:title>
</cp:coreProperties>
</file>